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920" cy="15048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260120" y="493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ecece"/>
                </a:solidFill>
                <a:latin typeface="Arial"/>
              </a:rPr>
              <a:t>SRI Internat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ecece"/>
                </a:solidFill>
                <a:latin typeface="Arial"/>
              </a:rPr>
              <a:t>Bioinforma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920" y="1447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1920" cy="1504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3938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93800" indent="12600" algn="ctr">
              <a:spcBef>
                <a:spcPts val="499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3" marL="1136520" indent="12960" algn="ctr">
              <a:spcBef>
                <a:spcPts val="499"/>
              </a:spcBef>
              <a:buClr>
                <a:srgbClr val="ffcc66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479600" indent="12600" algn="ctr">
              <a:spcBef>
                <a:spcPts val="499"/>
              </a:spcBef>
              <a:buClr>
                <a:srgbClr val="ffcc66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479600" indent="12600">
              <a:spcBef>
                <a:spcPts val="4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rabidopsis.org/tools/aracyc/javacyc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Update on The Pathway Tools Software</a:t>
            </a:r>
            <a:br>
              <a:rPr sz="3600"/>
            </a:br>
            <a:endParaRPr b="1" i="1" lang="en-US" sz="36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Peter D. Karp, Ph.D.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karp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uman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Bs Created b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External Use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16256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Saccharomyces cerevisiae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.yeastgenome.org/biocyc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Plasmodium falciparum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lasmocyc.stanford.edu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Mycobacterium tuberculosis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Stanford University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BioCyc.org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Arabidopsis thaliana 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and</a:t>
            </a: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 Synechosistis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Carnegie Institution of Washington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rabidopsis.org:1555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Arial"/>
              </a:rPr>
              <a:t>Methanococcus janaschii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, EBI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aine.ebi.ac.uk:1555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Other PGDBs in progress by 30 other user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Software freely available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Each PGDB owned by its creator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Tutorial This Week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ed 9/17: Navigator, PathoLog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u 9/18: Edito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ri 9/19: APIs – Lisp, PerlCyc, JavaCy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377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RI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43680" indent="-214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zanne Paley, Pedro Romero, John Pick, Cindy Krieger, Martha Arnaud, Randy Gobbel, Michelle Green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43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coCyc Projec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43680" indent="-214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J. Collado-Vides, J. Ingraham, I. Paulsen, M. Sai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MetaCyc Project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43680" indent="-214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e Rhee, Lukas Mueller, Peifen Zhang, Chris Somervill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tanfor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43680" indent="-2142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ary Schoolnik, Harley McAdams, Lucy Shapiro, Russ Altman, Iwei Yeh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9200" y="1218960"/>
            <a:ext cx="3772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unding sources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IH National Center for Research Resourc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IH National Institute of General Medical Scienc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IH National Human Genome Research Institut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epartment of Energy Microbial Cell Projec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ARPA BioSpice, UP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943600"/>
            <a:ext cx="4572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Terminology –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04480" indent="-2044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15960" indent="-20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ion of metabolic network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15960" indent="-20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04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04480" indent="-2044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15960" indent="-20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15960" indent="-20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15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04480" indent="-2044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15960" indent="-20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15960" indent="-20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15960" indent="-2048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920880" indent="-2034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920880" indent="-2034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92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04480" indent="-2044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Bioinformatics 18:S225 2002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523880"/>
            <a:ext cx="3962520" cy="434340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5181480"/>
            <a:ext cx="1371600" cy="459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hromosom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smi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24400" y="4267080"/>
            <a:ext cx="648720" cy="276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6040" y="3429000"/>
            <a:ext cx="792000" cy="276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38098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46483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8080" y="2590920"/>
            <a:ext cx="910800" cy="276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ac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47720" y="1752480"/>
            <a:ext cx="886320" cy="276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th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98520" y="2590920"/>
            <a:ext cx="1069200" cy="276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ou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133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27432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20800" y="6019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97800" y="4114800"/>
            <a:ext cx="1527840" cy="641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eron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moter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NA Binding Si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44197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971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3581280"/>
            <a:ext cx="304920" cy="304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Algorithm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7624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Query, visualization and editing tools for these datatypes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Full Metabolic Map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22800" indent="-2073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int gene expression data on metabolic network; compare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22800" indent="-2073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predic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Reaction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22800" indent="-2073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Balance checker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ompound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22800" indent="-2073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hemical substructure comparis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Enzymes, Transporters, Transcription Factor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Genes: 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Blast search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Chromosom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Operon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22800" indent="-20736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peron predic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934320" y="838080"/>
            <a:ext cx="2209680" cy="1833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3675240"/>
            <a:ext cx="1752480" cy="1427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800600" y="5257800"/>
            <a:ext cx="1452600" cy="14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6324480" y="5029200"/>
            <a:ext cx="1341720" cy="1447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7724880" y="5334120"/>
            <a:ext cx="1419120" cy="1296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2971800" y="5410080"/>
            <a:ext cx="1081080" cy="1166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162920" y="3956040"/>
            <a:ext cx="1981080" cy="97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4572000" y="1981080"/>
            <a:ext cx="2590920" cy="16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ugust 2003 Release – v7.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ral import/export facility adde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vidence ontology added (PSB paper avail)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s to displays, editor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JavaCyc from Carnegie Institu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 Narrow"/>
                <a:hlinkClick r:id="rId1"/>
              </a:rPr>
              <a:t>www.arabidopsis.org/tools/aracyc/javacyc/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Web page buttons can be customize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queri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 pathways by reactants and product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 proteins by molecular weight and pI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 compounds by name, MW, formula, substructur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ference list displayed at bottom of pag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rentage displays revise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ll objects quer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isplay of chemical structures improve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ebruary 2003 Release – v7.0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Tools now supports introns, exons, alternative splic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pression viewer can load data from SA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eb crawlers can be block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e pages can be suppressed in favor of another 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emical structure editor has been extended and documen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y 2003: HumanCyc released – Human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 Future Relea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 for GO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 for protein domains and active sit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Stone Serif"/>
              </a:rPr>
              <a:t>MetaCyc: </a:t>
            </a:r>
            <a:r>
              <a:rPr b="1" i="1" lang="en-US" sz="3600" spc="-1" strike="noStrike">
                <a:solidFill>
                  <a:srgbClr val="ff6600"/>
                </a:solidFill>
                <a:latin typeface="Stone Serif"/>
              </a:rPr>
              <a:t>Meta</a:t>
            </a: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bolic En</a:t>
            </a:r>
            <a:r>
              <a:rPr b="1" i="1" lang="en-US" sz="3600" spc="-1" strike="noStrike">
                <a:solidFill>
                  <a:srgbClr val="ff6600"/>
                </a:solidFill>
                <a:latin typeface="Stone Serif"/>
              </a:rPr>
              <a:t>cyc</a:t>
            </a: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lopedia</a:t>
            </a:r>
            <a:endParaRPr b="1" i="1" lang="en-US" sz="36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onredundant metabolic pathway databas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escribe a representative sample of every experimentally determined metabolic pathwa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iterature-based DB with extensive references and commentar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s, reactions, enzymes, substrat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460 pathways, 1267 enzymes, 4294 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172 </a:t>
            </a:r>
            <a:r>
              <a:rPr b="0" i="1" lang="en-US" sz="2000" spc="-1" strike="noStrike">
                <a:solidFill>
                  <a:srgbClr val="ffffff"/>
                </a:solidFill>
                <a:latin typeface="Arial Narrow"/>
              </a:rPr>
              <a:t>E. coli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pathways,  2735 cit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Nucleic Acids Research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30:59-61 2002.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Jointly developed by SRI and Carnegie Institu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w focus on plant pathway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amily of Pathway/Genom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Databa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809880" y="1600200"/>
            <a:ext cx="1600200" cy="914400"/>
            <a:chOff x="3809880" y="1600200"/>
            <a:chExt cx="1600200" cy="914400"/>
          </a:xfrm>
        </p:grpSpPr>
        <p:sp>
          <p:nvSpPr>
            <p:cNvPr id="121" name=""/>
            <p:cNvSpPr/>
            <p:nvPr/>
          </p:nvSpPr>
          <p:spPr>
            <a:xfrm>
              <a:off x="3809880" y="1600200"/>
              <a:ext cx="1600200" cy="91440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38120" y="182880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etaCy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743200" y="4114800"/>
            <a:ext cx="4343400" cy="2057400"/>
            <a:chOff x="2743200" y="4114800"/>
            <a:chExt cx="4343400" cy="2057400"/>
          </a:xfrm>
        </p:grpSpPr>
        <p:sp>
          <p:nvSpPr>
            <p:cNvPr id="124" name=""/>
            <p:cNvSpPr/>
            <p:nvPr/>
          </p:nvSpPr>
          <p:spPr>
            <a:xfrm>
              <a:off x="3962520" y="5638680"/>
              <a:ext cx="761760" cy="533520"/>
            </a:xfrm>
            <a:prstGeom prst="diamond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24480" y="4114800"/>
              <a:ext cx="762120" cy="533520"/>
            </a:xfrm>
            <a:prstGeom prst="diamond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43200" y="4343400"/>
              <a:ext cx="762120" cy="533520"/>
            </a:xfrm>
            <a:prstGeom prst="diamond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828800" y="2666880"/>
            <a:ext cx="5334120" cy="3657600"/>
            <a:chOff x="1828800" y="2666880"/>
            <a:chExt cx="5334120" cy="3657600"/>
          </a:xfrm>
        </p:grpSpPr>
        <p:sp>
          <p:nvSpPr>
            <p:cNvPr id="128" name=""/>
            <p:cNvSpPr/>
            <p:nvPr/>
          </p:nvSpPr>
          <p:spPr>
            <a:xfrm>
              <a:off x="6248520" y="5029200"/>
              <a:ext cx="761760" cy="533520"/>
            </a:xfrm>
            <a:prstGeom prst="diamond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1120" y="3581280"/>
              <a:ext cx="761760" cy="533520"/>
            </a:xfrm>
            <a:prstGeom prst="diamond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1080" y="2819520"/>
              <a:ext cx="762120" cy="533160"/>
            </a:xfrm>
            <a:prstGeom prst="diamond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2666880"/>
              <a:ext cx="762120" cy="533520"/>
            </a:xfrm>
            <a:prstGeom prst="diamond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2200" y="5791320"/>
              <a:ext cx="762120" cy="533160"/>
            </a:xfrm>
            <a:prstGeom prst="diamond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34120" y="4648320"/>
              <a:ext cx="761760" cy="533160"/>
            </a:xfrm>
            <a:prstGeom prst="diamond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28800" y="4952880"/>
              <a:ext cx="762120" cy="533520"/>
            </a:xfrm>
            <a:prstGeom prst="diamond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2438280"/>
            <a:ext cx="8610480" cy="3886200"/>
            <a:chOff x="228600" y="2438280"/>
            <a:chExt cx="8610480" cy="3886200"/>
          </a:xfrm>
        </p:grpSpPr>
        <p:sp>
          <p:nvSpPr>
            <p:cNvPr id="136" name=""/>
            <p:cNvSpPr/>
            <p:nvPr/>
          </p:nvSpPr>
          <p:spPr>
            <a:xfrm>
              <a:off x="1066680" y="4419720"/>
              <a:ext cx="762120" cy="53316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1120" y="4648320"/>
              <a:ext cx="761760" cy="53316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77320" y="3733920"/>
              <a:ext cx="761760" cy="53316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3429000"/>
              <a:ext cx="762120" cy="53352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6400" y="3429000"/>
              <a:ext cx="762120" cy="53352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96080" y="4495680"/>
              <a:ext cx="762120" cy="53352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4400" y="3276720"/>
              <a:ext cx="762120" cy="53316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8600" y="3886200"/>
              <a:ext cx="762120" cy="53352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8280" y="5791320"/>
              <a:ext cx="762120" cy="53316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91520" y="5791320"/>
              <a:ext cx="761760" cy="53316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5791320"/>
              <a:ext cx="762120" cy="53316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5715000"/>
              <a:ext cx="762120" cy="53352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38880" y="3352680"/>
              <a:ext cx="762120" cy="533520"/>
            </a:xfrm>
            <a:prstGeom prst="diamond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72000" y="2666880"/>
              <a:ext cx="0" cy="457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809520" y="2438280"/>
              <a:ext cx="30492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05520" y="2438280"/>
              <a:ext cx="304560" cy="38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2120" y="1523520"/>
            <a:ext cx="7924320" cy="1371960"/>
            <a:chOff x="762120" y="1523520"/>
            <a:chExt cx="7924320" cy="1371960"/>
          </a:xfrm>
        </p:grpSpPr>
        <p:sp>
          <p:nvSpPr>
            <p:cNvPr id="153" name=""/>
            <p:cNvSpPr/>
            <p:nvPr/>
          </p:nvSpPr>
          <p:spPr>
            <a:xfrm flipV="1">
              <a:off x="762120" y="1523160"/>
              <a:ext cx="1295280" cy="1219320"/>
            </a:xfrm>
            <a:custGeom>
              <a:avLst/>
              <a:gdLst>
                <a:gd name="textAreaLeft" fmla="*/ 173520 w 1295280"/>
                <a:gd name="textAreaRight" fmla="*/ 1121760 w 1295280"/>
                <a:gd name="textAreaTop" fmla="*/ 255600 h 1219320"/>
                <a:gd name="textAreaBottom" fmla="*/ 81072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070" stAng="-5400000" swAng="-5400000"/>
                  <a:lnTo>
                    <a:pt x="0" y="9830"/>
                  </a:lnTo>
                  <a:arcTo wR="21600" hR="9070" stAng="10800000" swAng="-3634866"/>
                  <a:lnTo>
                    <a:pt x="16623" y="21356"/>
                  </a:lnTo>
                  <a:lnTo>
                    <a:pt x="21600" y="18520"/>
                  </a:lnTo>
                  <a:lnTo>
                    <a:pt x="16623" y="15196"/>
                  </a:lnTo>
                  <a:lnTo>
                    <a:pt x="16623" y="17896"/>
                  </a:lnTo>
                  <a:arcTo wR="21600" hR="9070" stAng="7165134" swAng="3574340"/>
                  <a:lnTo>
                    <a:pt x="19" y="9450"/>
                  </a:lnTo>
                  <a:arcTo wR="21600" hR="9070" stAng="-10739474" swAng="5339474"/>
                  <a:close/>
                </a:path>
                <a:path fill="darkenLess" w="21600" h="21600">
                  <a:moveTo>
                    <a:pt x="21600" y="0"/>
                  </a:moveTo>
                  <a:arcTo wR="21600" hR="9070" stAng="-5400000" swAng="-5400000"/>
                  <a:lnTo>
                    <a:pt x="0" y="9070"/>
                  </a:lnTo>
                  <a:arcTo wR="21600" hR="9070" stAng="10800000" swAng="-60526"/>
                  <a:lnTo>
                    <a:pt x="19" y="9450"/>
                  </a:lnTo>
                  <a:arcTo wR="21600" hR="9070" stAng="-10739474" swAng="5339474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43080" y="1676520"/>
              <a:ext cx="1143000" cy="1218960"/>
            </a:xfrm>
            <a:custGeom>
              <a:avLst/>
              <a:gdLst>
                <a:gd name="textAreaLeft" fmla="*/ 153000 w 1143000"/>
                <a:gd name="textAreaRight" fmla="*/ 990000 w 1143000"/>
                <a:gd name="textAreaTop" fmla="*/ 256320 h 1218960"/>
                <a:gd name="textAreaBottom" fmla="*/ 8110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070" stAng="-5400000" swAng="-5400000"/>
                  <a:lnTo>
                    <a:pt x="0" y="9830"/>
                  </a:lnTo>
                  <a:arcTo wR="21600" hR="9070" stAng="10800000" swAng="-3634866"/>
                  <a:lnTo>
                    <a:pt x="16623" y="21356"/>
                  </a:lnTo>
                  <a:lnTo>
                    <a:pt x="21600" y="18520"/>
                  </a:lnTo>
                  <a:lnTo>
                    <a:pt x="16623" y="15196"/>
                  </a:lnTo>
                  <a:lnTo>
                    <a:pt x="16623" y="17896"/>
                  </a:lnTo>
                  <a:arcTo wR="21600" hR="9070" stAng="7165134" swAng="3574340"/>
                  <a:lnTo>
                    <a:pt x="19" y="9450"/>
                  </a:lnTo>
                  <a:arcTo wR="21600" hR="9070" stAng="-10739474" swAng="5339474"/>
                  <a:close/>
                </a:path>
                <a:path fill="darkenLess" w="21600" h="21600">
                  <a:moveTo>
                    <a:pt x="21600" y="0"/>
                  </a:moveTo>
                  <a:arcTo wR="21600" hR="9070" stAng="-5400000" swAng="-5400000"/>
                  <a:lnTo>
                    <a:pt x="0" y="9070"/>
                  </a:lnTo>
                  <a:arcTo wR="21600" hR="9070" stAng="10800000" swAng="-60526"/>
                  <a:lnTo>
                    <a:pt x="19" y="9450"/>
                  </a:lnTo>
                  <a:arcTo wR="21600" hR="9070" stAng="-10739474" swAng="5339474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9:30Z</dcterms:created>
  <dc:creator>Peter Karp</dc:creator>
  <dc:description/>
  <dc:language>en-US</dc:language>
  <cp:lastModifiedBy>Scott Cain</cp:lastModifiedBy>
  <cp:lastPrinted>2000-01-10T21:27:38Z</cp:lastPrinted>
  <dcterms:modified xsi:type="dcterms:W3CDTF">2003-09-15T15:21:23Z</dcterms:modified>
  <cp:revision>711</cp:revision>
  <dc:subject/>
  <dc:title>BioCyc</dc:title>
</cp:coreProperties>
</file>